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EA59-5904-4F1C-8081-0816B2C8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6C7-F5A1-4EF7-AE01-D4EE42D7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2A7-B006-49E6-89D2-2869D240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93F-F5EB-4C7D-885F-87BD66D6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5E67-00BF-4EFF-84CE-14AD6134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8041-D393-4E44-A97D-3FB63824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8B04-03F9-42C8-99EF-1FE87191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B137-C3B0-406F-B5C8-13495184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1DD7-06CE-49E4-8A6F-C377DE63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FA08-6921-4660-976D-2ADCACD7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3F1F-E4AD-4EF6-90C4-BC555D1A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45E-E750-46B9-A222-E7CB7183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BAB2-5343-4A95-B859-B991870D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3768-42CD-4CC5-A110-F99C64C8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AB03-54A3-4EA7-A395-D899E1AE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DE6D-F086-4D4D-A59D-63541AF6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F60E-2244-4103-9437-A948A699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E755-9D22-48A3-BE1C-13B933A5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EBCD-D771-4EDB-AEBC-5E21759C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7E0-0A47-4582-92AF-5C4C306B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C4D-279A-4950-AF09-BBE2EC22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CF5-CEB1-4741-8ECF-11CC8D5E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C8A-B156-41C1-8494-627A8096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2E2-9799-4F86-A490-720BEECC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97A7-640E-4934-A26A-E0A3E5F23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7E3B-1BA4-4A26-B5E6-E91D797D9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What Should We Teach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940 - Harvard Stud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ommended three Carnegie Units - English, Science, and math - two in Social Stud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im of all courses - think effectively, communicate thought, make relevant judgments, discriminate among val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st Curriculum for General Educ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pposing Positions of Curricul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bject-centered curricul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udent-centered curricul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iety - Centered curricul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ubject-Centered Curricul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hat education exists primarily to transmit formal knowledge to a new generation and prepare them to add to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aims of education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eracy -  Command of basic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cal thinking - problem sol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work hab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re to lea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ociety-centered curricul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rvival and smooth functioning of society is what education is all ab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ically America has taken this approa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tional identity from Europ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al lessons in the McGuffey rea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ociety-centered curricul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ed aims such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vic Respon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cational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ment of Democratic 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and Social adjus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ical values and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 for the welfare of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udent-Centered Curricul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individual  rights, talents, fulfillment, happiness, and individual social, economic, and intellectual advanc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udent-Centered Curricul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vor aims such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re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esteem, emotional stability, mental heal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ve ex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tal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se use of leisur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 Balanced Approac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eral education is about students, society, and knowledge and if any is neglected, we all los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f you knew the future of your students and what they would become, how would you design instruction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courses or instruction is needed to prepare children to become equal participants in a free society?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problem of general education is finding the most appropriate common curriculum to meet the difficult requirements of honoring individuals while also serving the democratic purposes of society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 our society, general education is provided in elementary school by offering a single board and comprehensive curriculum to all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 secondary education, the problem of a general education is much harder.  Students are ready for diversification and specialization.  Educators see high school as the last chance to complete the task of general educatio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storical Perspecti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883 - Committee of T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ointed by NEA to standardize the high school curricul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 detail about classic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cus on science, English, math, social stud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ttle to no concern for vocational study or the ar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918 - Commission on the Reorganization of Secondary Education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what was needed in college  and what was needed in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expressions of wr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hem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thy home memb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tize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thy use of lei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ical 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940 - Harvard Stud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General Education in a Free Socie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al is to help each person fulfill unique function in life and to become part of socie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sic general education was proposed for a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6:36:55Z</dcterms:created>
  <dc:creator>Carlette Hardin</dc:creator>
  <dc:description/>
  <dc:language>en-US</dc:language>
  <cp:lastModifiedBy>User</cp:lastModifiedBy>
  <dcterms:modified xsi:type="dcterms:W3CDTF">2003-07-19T03:08:26Z</dcterms:modified>
  <cp:revision>8</cp:revision>
  <dc:subject/>
  <dc:title>What Should We Teach</dc:title>
</cp:coreProperties>
</file>